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33E-6788-4D9A-8E39-C895A86F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616-986C-4AEA-B05B-655909AE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A29-52FF-4010-AE33-D25AFDFA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C5D-12D1-4502-9552-AB2E3D34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EB1-7919-417A-86A2-493BAA6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933-8F5F-432F-B20A-05439EE3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E6E-9089-469C-A498-E96F21DC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2D5-18FF-4C11-A8FF-CF208E28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BC7-8D4A-4224-BEF5-913CB718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A5E-0EFA-4E99-8211-202AB597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2B9-DE50-4A13-B12F-AE484914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555-946F-40E6-9219-B7FFFFC2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E95A-BB0C-4918-B3AE-CDD43A9D896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Obrázok 3" descr="070504_Quantum_mechanic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BlokTextu 4"/>
          <p:cNvSpPr/>
          <p:nvPr/>
        </p:nvSpPr>
        <p:spPr>
          <a:xfrm>
            <a:off x="285840" y="285840"/>
            <a:ext cx="4214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Calibri"/>
              </a:rPr>
              <a:t>Dvojštrbinový experi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Calibri"/>
              </a:rPr>
              <a:t>A jeho interpretác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BlokTextu 5"/>
          <p:cNvSpPr/>
          <p:nvPr/>
        </p:nvSpPr>
        <p:spPr>
          <a:xfrm>
            <a:off x="428760" y="5072040"/>
            <a:ext cx="314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Calibri"/>
              </a:rPr>
              <a:t>Vln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Calibri"/>
              </a:rPr>
              <a:t>alebo časti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BlokTextu 6"/>
          <p:cNvSpPr/>
          <p:nvPr/>
        </p:nvSpPr>
        <p:spPr>
          <a:xfrm>
            <a:off x="6143760" y="5533920"/>
            <a:ext cx="278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Calibri"/>
              </a:rPr>
              <a:t>Andrea Heribanov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28760" y="11426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Interpretácie dvojštrbinového experiment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BlokTextu 3"/>
          <p:cNvSpPr/>
          <p:nvPr/>
        </p:nvSpPr>
        <p:spPr>
          <a:xfrm>
            <a:off x="928800" y="28584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Calibri"/>
              </a:rPr>
              <a:t>2. časť: ,,Prečo?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BlokTextu 7"/>
          <p:cNvSpPr/>
          <p:nvPr/>
        </p:nvSpPr>
        <p:spPr>
          <a:xfrm>
            <a:off x="714240" y="214308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Kodanská interpretá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Teória mnohých svetov (paralelných vesmíro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Teória klasickej mechani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Transakčná interpretácia (pokročilých vĺ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BlokTextu 3"/>
          <p:cNvSpPr/>
          <p:nvPr/>
        </p:nvSpPr>
        <p:spPr>
          <a:xfrm>
            <a:off x="928800" y="214200"/>
            <a:ext cx="7143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5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 u="sng">
                <a:solidFill>
                  <a:srgbClr val="ffff00"/>
                </a:solidFill>
                <a:uFillTx/>
                <a:latin typeface="Calibri"/>
              </a:rPr>
              <a:t>Kodanská interpretá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ffffff"/>
                </a:solidFill>
                <a:latin typeface="Calibri"/>
              </a:rPr>
              <a:t>Vznikla na seminároch v Kodani vedených Nielsom Bohron, často sa označuje aj ako Bohrova interpretác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ffffff"/>
                </a:solidFill>
                <a:latin typeface="Calibri"/>
              </a:rPr>
              <a:t>Ak sa s fyzikálnym systémom môže udiať viac vecí, je prítomná </a:t>
            </a:r>
            <a:r>
              <a:rPr b="1" i="1" lang="sk-SK" sz="2500" spc="-1" strike="noStrike">
                <a:solidFill>
                  <a:srgbClr val="ffffff"/>
                </a:solidFill>
                <a:latin typeface="Calibri"/>
              </a:rPr>
              <a:t>amplitúda</a:t>
            </a:r>
            <a:r>
              <a:rPr b="1" lang="sk-SK" sz="2500" spc="-1" strike="noStrike">
                <a:solidFill>
                  <a:srgbClr val="ffffff"/>
                </a:solidFill>
                <a:latin typeface="Calibri"/>
              </a:rPr>
              <a:t> (pravdepodobností) pre každú z nich a celkový stav systému je daný súčtom či superpozíciou všetkých týchto amplitú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ffffff"/>
                </a:solidFill>
                <a:latin typeface="Calibri"/>
              </a:rPr>
              <a:t>Ak sa následne uskutoční pozorovanie, zistí sa jedna určitá hodnota, ktorá zodpovedá jednej z amplitúd. Ostatné amplitúdy zmiznú – hovorí sa tomu redukcia amplitúd či redukcia vlnového zväzk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ffffff"/>
                </a:solidFill>
                <a:latin typeface="Calibri"/>
              </a:rPr>
              <a:t>Vysvetlenie dvojštrbinového experiment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28760" y="11426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Problém merania: nie je jasné, ako dochádza k výberu jednej možnosti (jednej amplitúdy pravdepodobnosti) a redukcie ostatných amplitú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BlokTextu 3"/>
          <p:cNvSpPr/>
          <p:nvPr/>
        </p:nvSpPr>
        <p:spPr>
          <a:xfrm>
            <a:off x="928800" y="28584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Calibri"/>
              </a:rPr>
              <a:t>Nedostat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Obrázok 4" descr="800px-Schrodinger_cat_in_box.jpg"/>
          <p:cNvPicPr/>
          <p:nvPr/>
        </p:nvPicPr>
        <p:blipFill>
          <a:blip r:embed="rId2"/>
          <a:stretch/>
        </p:blipFill>
        <p:spPr>
          <a:xfrm>
            <a:off x="3643200" y="2786040"/>
            <a:ext cx="5072040" cy="3689280"/>
          </a:xfrm>
          <a:prstGeom prst="rect">
            <a:avLst/>
          </a:prstGeom>
          <a:ln w="0">
            <a:noFill/>
          </a:ln>
        </p:spPr>
      </p:pic>
      <p:sp>
        <p:nvSpPr>
          <p:cNvPr id="80" name="BlokTextu 5"/>
          <p:cNvSpPr/>
          <p:nvPr/>
        </p:nvSpPr>
        <p:spPr>
          <a:xfrm>
            <a:off x="428760" y="2571840"/>
            <a:ext cx="2928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Paradox Schrödingerovej mačky a problém pozorovateľ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BlokTextu 3"/>
          <p:cNvSpPr/>
          <p:nvPr/>
        </p:nvSpPr>
        <p:spPr>
          <a:xfrm>
            <a:off x="357120" y="0"/>
            <a:ext cx="82868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 u="sng">
                <a:solidFill>
                  <a:srgbClr val="ffff00"/>
                </a:solidFill>
                <a:uFillTx/>
                <a:latin typeface="Calibri"/>
              </a:rPr>
              <a:t>2. Teória mnohých svetov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 u="sng">
                <a:solidFill>
                  <a:srgbClr val="ffffff"/>
                </a:solidFill>
                <a:uFillTx/>
                <a:latin typeface="Calibri"/>
              </a:rPr>
              <a:t>Paralelné vesmí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8760" y="1785960"/>
            <a:ext cx="8286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Calibri"/>
              </a:rPr>
              <a:t>Jej pôvodcom bol americký fyzik Hugh Everett III. (195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Calibri"/>
              </a:rPr>
              <a:t>Základná myšlienka: vždy, keď je vesmír postavený pred voľbu na kvantovej úrovni, rozštiepi sa ako celok na toľko kópií, koľko potrebuje k tomu, aby bola uskutočnená každá voľb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Calibri"/>
              </a:rPr>
              <a:t>Paradox Schrödingerovej mačky: existuje živá aj mŕtva mačka v dvoch vesmíro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Calibri"/>
              </a:rPr>
              <a:t>Neexistuje teda superpozícia stavov a kolabovanie amplitúdy pravdepodobností, rieši problém pozorovateľ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Calibri"/>
              </a:rPr>
              <a:t>Vysvetlenie dvojštrbinového experimen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0004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V súčasnosti sa venuje teórii mnohých svetov David Deutsch z Oxfordeskej Univerz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Vytvoril experiment, ktorý by v budúcnosti mohol potvrdiť alebo vyvrátiť existenciu paralelných sve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Navrhuje zostrojiť počítačový „mozog“, ktorý by si priamo uvedomoval deje prebiehajúce na kvantovej úrovni. Tomuto superpočítaču by vedci zadali úlohu pozorovať kvantový systém s dvoma rovnako pravdepodobnými výsledkami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Ak je správna kodanská interpretácia, interferenčný vzorec dvojštrbinového experimentu by v takomto prípade zmizo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Ak je správna teória paralelných vesmírov, na tienidle by sme stále pozorovali interferenčný vzore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 u="sng">
                <a:solidFill>
                  <a:srgbClr val="ffff00"/>
                </a:solidFill>
                <a:uFillTx/>
                <a:latin typeface="Calibri"/>
              </a:rPr>
              <a:t>3.  Teória klasickej mechanik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76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Klasická mechanika dospela k odlišnej interpretácii kvantovej mechaniky zvanej teória pilotnej vlny, prezentovane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Louis de Broglie</a:t>
            </a: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v roku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192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Je založená na rovnakých matematických princípoch ako ostatné interpretácie a má značnú oporu v experimento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Podľa tejto teórie sa aj častice mikrosveta správajú ako objekty klasického sveta; odmieta predstavu, že elektróny či iné častice prechádzajú dvoma štrbinami nara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Interferenčný vzorec vysvetľuje existenciou tzv. </a:t>
            </a:r>
            <a:r>
              <a:rPr b="0" i="1" lang="sk-SK" sz="2600" spc="-1" strike="noStrike">
                <a:solidFill>
                  <a:srgbClr val="ffffff"/>
                </a:solidFill>
                <a:latin typeface="Calibri"/>
              </a:rPr>
              <a:t>skrytých parametrov </a:t>
            </a: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(ako poloha a hybnosť častíc), ktoré sú vždy definované, avšak sa nedajú zmerať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28760" y="5713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Skupine častíc je priradená vlna, ktorá sa správa podľa Schrödingerovej rovnice; každá častica z tejto skupiny má pritom predurčenú zložitú dráhu, ktorou sa pohybu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Táto teória má ale viacero nedostatkov (napríklad nevysvetľuje správne neelastický rozptyl častí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Obrázok 3" descr="splash-ripples.jpg"/>
          <p:cNvPicPr/>
          <p:nvPr/>
        </p:nvPicPr>
        <p:blipFill>
          <a:blip r:embed="rId2"/>
          <a:stretch/>
        </p:blipFill>
        <p:spPr>
          <a:xfrm>
            <a:off x="1357200" y="3071880"/>
            <a:ext cx="6365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 u="sng">
                <a:solidFill>
                  <a:srgbClr val="ffff00"/>
                </a:solidFill>
                <a:uFillTx/>
                <a:latin typeface="Calibri"/>
              </a:rPr>
              <a:t>4. Transakčná interpretácia </a:t>
            </a:r>
            <a:br>
              <a:rPr sz="4000"/>
            </a:br>
            <a:r>
              <a:rPr b="0" lang="sk-SK" sz="3400" spc="-1" strike="noStrike" u="sng">
                <a:solidFill>
                  <a:srgbClr val="ffffff"/>
                </a:solidFill>
                <a:uFillTx/>
                <a:latin typeface="Calibri"/>
              </a:rPr>
              <a:t>Teória pokročilých vĺn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004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Transakčná interpretácia popisuje kvantové interakcie prostredníctvom stojatých vĺn vytvorených „retardovanými“ a „pokročilými“ vlnami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Autorom tejto teórie je John Cramer, ktorý ju prvýkrát prezentoval v roku 1986; vyžaduje existenciu zápornej energie šíriacej sa do minul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Calibri"/>
              </a:rPr>
              <a:t>Zjednodušene: Prvý elektrón vyšle ponukovú vlnu, ktorá sa šíri k druhému elektrónu. Druhý elektrón potom vyšle potvrdzujúcu vlnu (šíri sa z budúcnosti do minulosti) smerom k prvému a celá interakcia sa tak uskutoční cez priestoročas. V skutočnosti ale ide o bezčasový proces, všetko prebieha súčasn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71840" y="357120"/>
            <a:ext cx="40003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ok 3" descr="transaction.gif"/>
          <p:cNvPicPr/>
          <p:nvPr/>
        </p:nvPicPr>
        <p:blipFill>
          <a:blip r:embed="rId2"/>
          <a:stretch/>
        </p:blipFill>
        <p:spPr>
          <a:xfrm>
            <a:off x="5143680" y="214200"/>
            <a:ext cx="3797280" cy="642960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obsahu 2"/>
          <p:cNvSpPr/>
          <p:nvPr/>
        </p:nvSpPr>
        <p:spPr>
          <a:xfrm>
            <a:off x="214200" y="357120"/>
            <a:ext cx="4714920" cy="78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"/>
              </a:rPr>
              <a:t>Keď elektrón vibruje, vytvára pole: zmes retardovanej vlny (šíri sa do budúcnosti) a pokročilej vlny (šíri sa do minulosti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"/>
              </a:rPr>
              <a:t>Retardovaná vlna putuje do budúcnosti, kým sa nestretne s elektrónom, ktorý ju pohltí a začne tiež vibrovať. Táto vibrácia vytvára retardovanú a pokročilú vlnu, ktorá sa šíri do minulosti po stope pôvodnej vl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"/>
              </a:rPr>
              <a:t>Prvý elektrón pohltí a tiež vyžiari pokročilú vlnu do minulosti, ktorá vyruší zvyšok tejto energie resp. vlny. Nakoniec zostáva dvojitá vlna spájajúca oba elektró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Calibri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libri"/>
              </a:rPr>
              <a:t>Dvojštrbinový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142884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Youngov pokus alebo dvojštrbinový experiment (z angl. double slit experiment) je experiment publikovaný v roku 1803 fyzikom Thomasom Youngom, ktorým potvrdil, že svetlo je vlne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Modifikáciou tohto experimentu sa neskôr dokázali aj vlnové vlastnosti častíc (elektrónov , atómov a dokonca aj samostatných molekú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BlokTextu 3"/>
          <p:cNvSpPr/>
          <p:nvPr/>
        </p:nvSpPr>
        <p:spPr>
          <a:xfrm>
            <a:off x="785880" y="464328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Podľa Richarda Feynmana zahŕňa 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všetky kvantové</a:t>
            </a: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princíp</a:t>
            </a: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a poukazuje na všetky </a:t>
            </a: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aradoxy a záhady mikrosv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57120" y="4996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1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i="1" lang="fr-FR" sz="3100" spc="-1" strike="noStrike">
                <a:solidFill>
                  <a:srgbClr val="ffffff"/>
                </a:solidFill>
                <a:latin typeface="Calibri"/>
              </a:rPr>
              <a:t>Môžem bezpečne prehlásiť, že kvantovej teórii nerozumie nikto.“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fr-FR" sz="2700" spc="-1" strike="noStrike">
                <a:solidFill>
                  <a:srgbClr val="ffffff"/>
                </a:solidFill>
                <a:latin typeface="Calibri"/>
              </a:rPr>
              <a:t>Richard Feynm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7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fr-FR" sz="2700" spc="-1" strike="noStrike">
                <a:solidFill>
                  <a:srgbClr val="ffffff"/>
                </a:solidFill>
                <a:latin typeface="Calibri"/>
              </a:rPr>
              <a:t>oci môžeme zrozumiteľne a matematicky presne opísať nezvyčajné správanie elementárnych častíc, nevieme odpovedať na otázku, prečo sa príroda správa tak zvlášt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ffffff"/>
                </a:solidFill>
                <a:latin typeface="Calibri"/>
              </a:rPr>
              <a:t>Veda odpovedá na „Ako?“, ale „Prečo?“ ponecháva filozofo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BlokTextu 3"/>
          <p:cNvSpPr/>
          <p:nvPr/>
        </p:nvSpPr>
        <p:spPr>
          <a:xfrm>
            <a:off x="3000240" y="4643280"/>
            <a:ext cx="335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Seminárna prác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Časť: ,,Ako?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alibri"/>
              </a:rPr>
              <a:t>Časť: ,,Prečo?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"/>
              </a:rPr>
              <a:t>Usporiadanie experimen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ok 3" descr="double-slit-electrons.jpg"/>
          <p:cNvPicPr/>
          <p:nvPr/>
        </p:nvPicPr>
        <p:blipFill>
          <a:blip r:embed="rId2"/>
          <a:stretch/>
        </p:blipFill>
        <p:spPr>
          <a:xfrm>
            <a:off x="2214720" y="1643040"/>
            <a:ext cx="4722480" cy="4863960"/>
          </a:xfrm>
          <a:prstGeom prst="rect">
            <a:avLst/>
          </a:prstGeom>
          <a:ln w="0">
            <a:noFill/>
          </a:ln>
        </p:spPr>
      </p:pic>
      <p:sp>
        <p:nvSpPr>
          <p:cNvPr id="54" name="BlokTextu 4"/>
          <p:cNvSpPr/>
          <p:nvPr/>
        </p:nvSpPr>
        <p:spPr>
          <a:xfrm>
            <a:off x="214200" y="392904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Calibri"/>
              </a:rPr>
              <a:t>Zdroj častí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Calibri"/>
              </a:rPr>
              <a:t>resp. v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Šípka dolu 7" descr=""/>
          <p:cNvPicPr/>
          <p:nvPr/>
        </p:nvPicPr>
        <p:blipFill>
          <a:blip r:embed="rId3"/>
          <a:stretch/>
        </p:blipFill>
        <p:spPr>
          <a:xfrm>
            <a:off x="1596960" y="4627440"/>
            <a:ext cx="1158840" cy="1309680"/>
          </a:xfrm>
          <a:prstGeom prst="rect">
            <a:avLst/>
          </a:prstGeom>
          <a:ln w="0">
            <a:noFill/>
          </a:ln>
        </p:spPr>
      </p:pic>
      <p:sp>
        <p:nvSpPr>
          <p:cNvPr id="56" name="BlokTextu 8"/>
          <p:cNvSpPr/>
          <p:nvPr/>
        </p:nvSpPr>
        <p:spPr>
          <a:xfrm>
            <a:off x="214200" y="200016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Calibri"/>
              </a:rPr>
              <a:t>Doska s otvor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Calibri"/>
              </a:rPr>
              <a:t>(štrbinam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Šípka dolu 9" descr=""/>
          <p:cNvPicPr/>
          <p:nvPr/>
        </p:nvPicPr>
        <p:blipFill>
          <a:blip r:embed="rId4"/>
          <a:stretch/>
        </p:blipFill>
        <p:spPr>
          <a:xfrm>
            <a:off x="1822320" y="2590920"/>
            <a:ext cx="1420920" cy="738000"/>
          </a:xfrm>
          <a:prstGeom prst="rect">
            <a:avLst/>
          </a:prstGeom>
          <a:ln w="0">
            <a:noFill/>
          </a:ln>
        </p:spPr>
      </p:pic>
      <p:sp>
        <p:nvSpPr>
          <p:cNvPr id="58" name="BlokTextu 10"/>
          <p:cNvSpPr/>
          <p:nvPr/>
        </p:nvSpPr>
        <p:spPr>
          <a:xfrm>
            <a:off x="7358040" y="18572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Calibri"/>
              </a:rPr>
              <a:t>Tienid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Šípka dolu 11" descr=""/>
          <p:cNvPicPr/>
          <p:nvPr/>
        </p:nvPicPr>
        <p:blipFill>
          <a:blip r:embed="rId5"/>
          <a:stretch/>
        </p:blipFill>
        <p:spPr>
          <a:xfrm>
            <a:off x="6761160" y="2266920"/>
            <a:ext cx="974880" cy="884160"/>
          </a:xfrm>
          <a:prstGeom prst="rect">
            <a:avLst/>
          </a:prstGeom>
          <a:ln w="0">
            <a:noFill/>
          </a:ln>
        </p:spPr>
      </p:pic>
      <p:sp>
        <p:nvSpPr>
          <p:cNvPr id="60" name="BlokTextu 12"/>
          <p:cNvSpPr/>
          <p:nvPr/>
        </p:nvSpPr>
        <p:spPr>
          <a:xfrm>
            <a:off x="928800" y="28584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Calibri"/>
              </a:rPr>
              <a:t>1. časť: ,,Ako?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Calibri"/>
              </a:rPr>
              <a:t>Dvojštrbinový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1.wmv" descr=""/>
          <p:cNvPicPr/>
          <p:nvPr/>
        </p:nvPicPr>
        <p:blipFill>
          <a:blip r:embed="rId2"/>
          <a:stretch/>
        </p:blipFill>
        <p:spPr>
          <a:xfrm>
            <a:off x="1422360" y="150012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325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Calibri"/>
              </a:rPr>
              <a:t>Dvojštrbinový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2.wmv" descr=""/>
          <p:cNvPicPr/>
          <p:nvPr/>
        </p:nvPicPr>
        <p:blipFill>
          <a:blip r:embed="rId2"/>
          <a:stretch/>
        </p:blipFill>
        <p:spPr>
          <a:xfrm>
            <a:off x="1327320" y="142884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5538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Calibri"/>
              </a:rPr>
              <a:t>Dvojštrbinový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3.wmv" descr=""/>
          <p:cNvPicPr/>
          <p:nvPr/>
        </p:nvPicPr>
        <p:blipFill>
          <a:blip r:embed="rId2"/>
          <a:stretch/>
        </p:blipFill>
        <p:spPr>
          <a:xfrm>
            <a:off x="1285920" y="139716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7965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Calibri"/>
              </a:rPr>
              <a:t>Dvojštrbinový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4.wmv" descr=""/>
          <p:cNvPicPr/>
          <p:nvPr/>
        </p:nvPicPr>
        <p:blipFill>
          <a:blip r:embed="rId2"/>
          <a:stretch/>
        </p:blipFill>
        <p:spPr>
          <a:xfrm>
            <a:off x="1285920" y="1397160"/>
            <a:ext cx="6429240" cy="482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213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Calibri"/>
              </a:rPr>
              <a:t>Dvojštrbinový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BlokTextu 6"/>
          <p:cNvSpPr/>
          <p:nvPr/>
        </p:nvSpPr>
        <p:spPr>
          <a:xfrm>
            <a:off x="1071720" y="607212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sk-SK" sz="2400" spc="-1" strike="noStrike">
                <a:solidFill>
                  <a:srgbClr val="ffffff"/>
                </a:solidFill>
                <a:latin typeface="Calibri"/>
              </a:rPr>
              <a:t>Priebeh skutočného dvojštrbinového experimen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5.wmv" descr=""/>
          <p:cNvPicPr/>
          <p:nvPr/>
        </p:nvPicPr>
        <p:blipFill>
          <a:blip r:embed="rId2"/>
          <a:stretch/>
        </p:blipFill>
        <p:spPr>
          <a:xfrm>
            <a:off x="1327320" y="1428840"/>
            <a:ext cx="6102360" cy="457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136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7:08:23Z</dcterms:created>
  <dc:creator>Andoka</dc:creator>
  <dc:description/>
  <dc:language>en-US</dc:language>
  <cp:lastModifiedBy>Tono</cp:lastModifiedBy>
  <dcterms:modified xsi:type="dcterms:W3CDTF">2010-06-06T14:14:23Z</dcterms:modified>
  <cp:revision>52</cp:revision>
  <dc:subject/>
  <dc:title>Snímka 1</dc:title>
</cp:coreProperties>
</file>